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E24F-9110-474F-8531-6C38648A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D38-AB2A-498F-A7B8-4DBC2DEE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01E-526C-4D65-909B-AA599AF3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D1D-8D8D-4745-B4C1-18CD5533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614-6B7B-497A-8EB2-D345DDE3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854-A0DA-4245-B4AA-D663B4A6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A4C-78CA-4AC6-A2EA-15EF9865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D7E-9253-4F1C-A7ED-45858DEA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FD5-BE70-48F1-96B5-A46574FE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B1C-9D31-4CA1-937F-9B5BBA51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786-42FF-4F8F-A3A1-C273769A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9D2C-0625-4C51-BD3A-7B8F1C33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38B5-F567-4413-BF17-ED344A7A9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58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4883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622440"/>
            <a:ext cx="7561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9:18:54Z</dcterms:created>
  <dc:creator>01690112</dc:creator>
  <dc:description/>
  <dc:language>en-US</dc:language>
  <cp:lastModifiedBy>01690112</cp:lastModifiedBy>
  <dcterms:modified xsi:type="dcterms:W3CDTF">2009-07-21T09:19:34Z</dcterms:modified>
  <cp:revision>1</cp:revision>
  <dc:subject/>
  <dc:title>Slide 1</dc:title>
</cp:coreProperties>
</file>